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F79B7A7-8D8A-4304-9D3C-438FE54FB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AE23563-8C63-4873-99AB-E4F9F57AC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09600" y="69516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4360" y="4341600"/>
            <a:ext cx="5486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203-785E-4C69-9C25-BA760A5C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3468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BC8-E0FB-4032-B95D-0B03F0D3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4E9-805E-4890-AF81-417C70A3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F62-3394-47B9-A9D5-DE456E76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E518-16E1-44B8-80E7-7CA0B871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57C8-55A1-4E5E-AA8D-068F6C12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E9E7-142E-493A-9B0D-CB7E4DE7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CBBF-BEC0-468C-8B68-BE3B8D42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A19E-16EA-459A-B618-3851DC74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0918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BFA3-EDFF-4C13-BBEE-4B7F2E47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1B3-700C-4E80-A622-02525030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69C-BA99-48D6-B287-5B7C4ADC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6904-EAA3-4290-AE61-7FFCB8B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8271-3CAD-4386-9FD1-E6812E4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23468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581F-9235-4396-B31E-EF1E0005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72CD-4FB0-482E-9E50-64DCA909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15892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234680"/>
            <a:ext cx="25023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BDD-7F70-45D0-BE89-CFE56DDB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D1F-7BEB-4372-8806-9B9EF195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03B-DE82-44DB-A369-97183091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F04-431E-4A5D-8F1A-A6527259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918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DAF-A4DA-4529-8460-4826F25E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DE3-860F-42AA-9361-EF726D0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3468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E66-A9CA-49FC-BD11-2DE3E13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58920"/>
            <a:ext cx="3792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3468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D36-12B8-44CE-A552-AFBF825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918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58920"/>
            <a:ext cx="777240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AF99-4096-4447-8128-E2E30AEDBD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973160"/>
            <a:ext cx="7772400" cy="0"/>
          </a:xfrm>
          <a:prstGeom prst="line">
            <a:avLst/>
          </a:prstGeom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DCA0-F91E-4583-9B1E-C10BA06CF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PA, the Global Earth Observation System of Systems &amp; Data Shar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24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ore and better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tter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63280" y="110484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 the future of environmental protectio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 needs to beco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uch larger u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emotely sensed earth observation da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its decision support t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observation, modeling and information needs are being defined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Earth Observation community are being s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llenge is to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0FF-0B71-4F77-A461-E9AA2B466F3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6840" y="1060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PA’s “Nich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8560" y="2000160"/>
            <a:ext cx="792504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User and Provider of data/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Linkages from Observations to all Nine Societal Benefit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’s Connections with State/Local/Tribal Environment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nvironmental Health Decision-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Assessment, Regulatory Action, Guidance, Uncertainty, Accountability, et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on the Environment and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BB4-B0FF-4873-AE33-7213C133FD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1706400"/>
            <a:ext cx="276120" cy="4160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95840"/>
            <a:ext cx="8229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THE SPECTRUM OF US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1148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observations &amp; earth system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-to-Information archiving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support too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scientists and mod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process modelers &amp;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 &amp; Environmental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officials, advocacy groups and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98100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950080"/>
            <a:ext cx="23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cietal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well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59436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ware that observational Requirements are even nee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8D6-429B-470F-83A4-0027423F7C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43400" y="1706400"/>
            <a:ext cx="276120" cy="4160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95840"/>
            <a:ext cx="8229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THE SPECTRUM OF US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1148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observations &amp; earth system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-to-Information archiving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support too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scientists and mod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process modelers &amp;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 &amp; Environmental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officials, advocacy groups and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98100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5950080"/>
            <a:ext cx="23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cietal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well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59436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ware that observational Requirements are even nee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625200">
            <a:off x="1606320" y="4619520"/>
            <a:ext cx="593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NOVICE US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8E6-6545-458D-9A58-52AD6B4DCD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8280" y="4079880"/>
            <a:ext cx="6248520" cy="220968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4600" y="879480"/>
            <a:ext cx="8305560" cy="3048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59400" y="1641600"/>
            <a:ext cx="3886200" cy="228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9160" y="1660680"/>
            <a:ext cx="3657600" cy="2266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7760" y="1812960"/>
            <a:ext cx="1524240" cy="9907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54280" y="2508120"/>
            <a:ext cx="1523880" cy="9907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11680" y="1811160"/>
            <a:ext cx="1523880" cy="9907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820880"/>
            <a:ext cx="1752840" cy="9907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SS Special Arrang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39880" y="280368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8160" y="2801880"/>
            <a:ext cx="1371600" cy="45900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lnTo>
                  <a:pt x="768" y="192"/>
                </a:lnTo>
                <a:lnTo>
                  <a:pt x="768" y="0"/>
                </a:lnTo>
              </a:path>
            </a:pathLst>
          </a:custGeom>
          <a:noFill/>
          <a:ln w="57240">
            <a:solidFill>
              <a:srgbClr val="ffff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3600" y="2822400"/>
            <a:ext cx="3504960" cy="819360"/>
          </a:xfrm>
          <a:custGeom>
            <a:avLst/>
            <a:gdLst/>
            <a:ahLst/>
            <a:rect l="l" t="t" r="r" b="b"/>
            <a:pathLst>
              <a:path w="2208" h="432">
                <a:moveTo>
                  <a:pt x="0" y="336"/>
                </a:moveTo>
                <a:lnTo>
                  <a:pt x="0" y="432"/>
                </a:lnTo>
                <a:lnTo>
                  <a:pt x="2208" y="432"/>
                </a:lnTo>
                <a:lnTo>
                  <a:pt x="2208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54680" y="2792520"/>
            <a:ext cx="1066680" cy="54432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672" y="0"/>
                </a:moveTo>
                <a:lnTo>
                  <a:pt x="672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9400" y="31464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1000" y="293040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52960" y="27781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e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40280" y="33750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om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434960" y="2803680"/>
            <a:ext cx="0" cy="1123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960" y="3108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6200" y="-3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GEOSS Registr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74840" y="3546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84920" y="3560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4928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12076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95920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6520" y="9748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17640" y="9748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b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56080" y="974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5004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57720" y="9986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99120" y="9748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37856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41520" y="9748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720960" y="1355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59400" y="514656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2280" y="5146560"/>
            <a:ext cx="17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00" y="514656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040" y="5146560"/>
            <a:ext cx="150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7960" y="4384800"/>
            <a:ext cx="17528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57880" y="438480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25680" y="5375160"/>
            <a:ext cx="2133720" cy="457200"/>
          </a:xfrm>
          <a:prstGeom prst="leftRightArrow">
            <a:avLst>
              <a:gd name="adj1" fmla="val 50000"/>
              <a:gd name="adj2" fmla="val 929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ser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34960" y="44607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30800" y="4460760"/>
            <a:ext cx="1218960" cy="68580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87800" y="3470400"/>
            <a:ext cx="533160" cy="914400"/>
          </a:xfrm>
          <a:prstGeom prst="upDownArrow">
            <a:avLst>
              <a:gd name="adj1" fmla="val 50000"/>
              <a:gd name="adj2" fmla="val 341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89960" y="50734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U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918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“Novice” U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6360" y="191124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-to-policy analy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ing on specific issues that fall within one or more S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SOA- or GEOSS-experien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ing for any and all observational data relevant to their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si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ind it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ew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E23-5C2B-4EB5-B72C-2523BC1305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09188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“Novice” U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6360" y="191124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the Novice U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EOSS Common Infra-structure is not user frien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data is not usef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need to provide sample data sets for easy viewing geograph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377-222B-46C1-815F-E1901AA327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2T01:13:35Z</dcterms:created>
  <dc:creator/>
  <dc:description/>
  <dc:language>en-US</dc:language>
  <cp:lastModifiedBy>Gary Foley</cp:lastModifiedBy>
  <dcterms:modified xsi:type="dcterms:W3CDTF">2009-01-07T12:46:53Z</dcterms:modified>
  <cp:revision>342</cp:revision>
  <dc:subject/>
  <dc:title>OSA</dc:title>
</cp:coreProperties>
</file>